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382250" cy="72532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037-8359-4A82-80DD-F8EA58D9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934560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" y="4192920"/>
            <a:ext cx="934560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C15-BCCB-4F8B-926B-C1CCBA91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7840" y="169200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120" y="419292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7840" y="419292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14F-773A-4390-A8EF-602E77AB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30088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8840" y="1692000"/>
            <a:ext cx="30088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38560" y="1692000"/>
            <a:ext cx="30088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120" y="4192920"/>
            <a:ext cx="30088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8840" y="4192920"/>
            <a:ext cx="30088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38560" y="4192920"/>
            <a:ext cx="30088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649-78B0-4C4D-B0E5-06C4CBD0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9120" y="1692000"/>
            <a:ext cx="934560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E30-CFEE-4518-B260-E28FC103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9345600" cy="478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8220-58D8-42F5-B4F3-0447DE0F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4560480" cy="478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7840" y="1692000"/>
            <a:ext cx="4560480" cy="478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A8FD-4CC3-4251-9593-D106BD22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B78A-6FF1-48AE-A966-1A3C3219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34560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158-662E-4560-91E3-D18EC5B1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7840" y="1692000"/>
            <a:ext cx="4560480" cy="478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9120" y="419292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65C-1933-406D-BB12-8D0A19F5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4560480" cy="478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7840" y="169200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7840" y="419292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4CD-2343-42D4-9869-A5D0476F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7840" y="169200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" y="4192920"/>
            <a:ext cx="934560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A4C-407B-47A5-BD0C-E36CF69C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9120" y="1692000"/>
            <a:ext cx="9345600" cy="478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157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60360" indent="-252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763640" indent="-25236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265480" indent="-24948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265480" indent="-2494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265480" indent="-2494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8760" y="6607080"/>
            <a:ext cx="24224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8160" y="6607080"/>
            <a:ext cx="328752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41920" y="6607080"/>
            <a:ext cx="24224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EC0C136A-0E09-4DD1-A20D-00FB6DAF6262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icmab.es/siesta" TargetMode="External"/><Relationship Id="rId3" Type="http://schemas.openxmlformats.org/officeDocument/2006/relationships/hyperlink" Target="http://www.icmab.es/siesta" TargetMode="External"/><Relationship Id="rId4" Type="http://schemas.openxmlformats.org/officeDocument/2006/relationships/hyperlink" Target="http://www.icmab.es/siesta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535800"/>
            <a:ext cx="10383840" cy="71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755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nd structure of an ionic solid:                        The case of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70360"/>
            <a:ext cx="1038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Compute and analyze the band structure of an ionic so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09800" y="3606840"/>
            <a:ext cx="455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85680" y="1189080"/>
            <a:ext cx="3227400" cy="3505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962600" y="1189080"/>
            <a:ext cx="5030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747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the transfer of charge is produced, the atoms only interact electrosta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43360" y="1569960"/>
            <a:ext cx="449568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057120" y="1951200"/>
            <a:ext cx="4359240" cy="3114360"/>
            <a:chOff x="3057120" y="1951200"/>
            <a:chExt cx="4359240" cy="3114360"/>
          </a:xfrm>
        </p:grpSpPr>
        <p:sp>
          <p:nvSpPr>
            <p:cNvPr id="115" name=""/>
            <p:cNvSpPr/>
            <p:nvPr/>
          </p:nvSpPr>
          <p:spPr>
            <a:xfrm>
              <a:off x="3389040" y="3692520"/>
              <a:ext cx="0" cy="887400"/>
            </a:xfrm>
            <a:prstGeom prst="line">
              <a:avLst/>
            </a:prstGeom>
            <a:ln w="19080">
              <a:solidFill>
                <a:srgbClr val="008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7480" y="3929040"/>
              <a:ext cx="66312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057120" y="4603680"/>
              <a:ext cx="2346840" cy="0"/>
            </a:xfrm>
            <a:prstGeom prst="line">
              <a:avLst/>
            </a:prstGeom>
            <a:ln w="190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057120" y="3689280"/>
              <a:ext cx="2346840" cy="3240"/>
            </a:xfrm>
            <a:prstGeom prst="line">
              <a:avLst/>
            </a:prstGeom>
            <a:ln w="190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22800" y="3987720"/>
              <a:ext cx="1440" cy="303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65440" y="3987720"/>
              <a:ext cx="1440" cy="303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36120" y="3948120"/>
              <a:ext cx="144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64760" y="39765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22800" y="4697280"/>
              <a:ext cx="397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entury Schoolbook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entury Schoolbook"/>
                </a:rPr>
                <a:t>/a                0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entury Schoolbook"/>
                </a:rPr>
                <a:t>/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4019400" y="3692520"/>
              <a:ext cx="2783880" cy="882720"/>
              <a:chOff x="4019400" y="3692520"/>
              <a:chExt cx="2783880" cy="882720"/>
            </a:xfrm>
          </p:grpSpPr>
          <p:sp>
            <p:nvSpPr>
              <p:cNvPr id="125" name=""/>
              <p:cNvSpPr/>
              <p:nvPr/>
            </p:nvSpPr>
            <p:spPr>
              <a:xfrm>
                <a:off x="4019400" y="3692520"/>
                <a:ext cx="1392120" cy="882720"/>
              </a:xfrm>
              <a:custGeom>
                <a:avLst/>
                <a:gdLst/>
                <a:ahLst/>
                <a:rect l="l" t="t" r="r" b="b"/>
                <a:pathLst>
                  <a:path w="1008" h="716">
                    <a:moveTo>
                      <a:pt x="0" y="0"/>
                    </a:moveTo>
                    <a:cubicBezTo>
                      <a:pt x="59" y="21"/>
                      <a:pt x="259" y="43"/>
                      <a:pt x="353" y="125"/>
                    </a:cubicBezTo>
                    <a:cubicBezTo>
                      <a:pt x="447" y="207"/>
                      <a:pt x="489" y="400"/>
                      <a:pt x="562" y="492"/>
                    </a:cubicBezTo>
                    <a:cubicBezTo>
                      <a:pt x="635" y="584"/>
                      <a:pt x="718" y="642"/>
                      <a:pt x="792" y="679"/>
                    </a:cubicBezTo>
                    <a:cubicBezTo>
                      <a:pt x="866" y="716"/>
                      <a:pt x="972" y="708"/>
                      <a:pt x="1008" y="715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5410800" y="3692520"/>
                <a:ext cx="1392120" cy="882720"/>
              </a:xfrm>
              <a:custGeom>
                <a:avLst/>
                <a:gdLst/>
                <a:ahLst/>
                <a:rect l="l" t="t" r="r" b="b"/>
                <a:pathLst>
                  <a:path w="1008" h="716">
                    <a:moveTo>
                      <a:pt x="0" y="0"/>
                    </a:moveTo>
                    <a:cubicBezTo>
                      <a:pt x="59" y="21"/>
                      <a:pt x="259" y="43"/>
                      <a:pt x="353" y="125"/>
                    </a:cubicBezTo>
                    <a:cubicBezTo>
                      <a:pt x="447" y="207"/>
                      <a:pt x="489" y="400"/>
                      <a:pt x="562" y="492"/>
                    </a:cubicBezTo>
                    <a:cubicBezTo>
                      <a:pt x="635" y="584"/>
                      <a:pt x="718" y="642"/>
                      <a:pt x="792" y="679"/>
                    </a:cubicBezTo>
                    <a:cubicBezTo>
                      <a:pt x="866" y="716"/>
                      <a:pt x="972" y="708"/>
                      <a:pt x="1008" y="715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019400" y="2338200"/>
              <a:ext cx="2783880" cy="880920"/>
              <a:chOff x="4019400" y="2338200"/>
              <a:chExt cx="2783880" cy="88092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4019400" y="2337840"/>
                <a:ext cx="1392120" cy="880920"/>
              </a:xfrm>
              <a:custGeom>
                <a:avLst/>
                <a:gdLst/>
                <a:ahLst/>
                <a:rect l="l" t="t" r="r" b="b"/>
                <a:pathLst>
                  <a:path w="1008" h="716">
                    <a:moveTo>
                      <a:pt x="0" y="0"/>
                    </a:moveTo>
                    <a:cubicBezTo>
                      <a:pt x="59" y="21"/>
                      <a:pt x="259" y="43"/>
                      <a:pt x="353" y="125"/>
                    </a:cubicBezTo>
                    <a:cubicBezTo>
                      <a:pt x="447" y="207"/>
                      <a:pt x="489" y="400"/>
                      <a:pt x="562" y="492"/>
                    </a:cubicBezTo>
                    <a:cubicBezTo>
                      <a:pt x="635" y="584"/>
                      <a:pt x="718" y="642"/>
                      <a:pt x="792" y="679"/>
                    </a:cubicBezTo>
                    <a:cubicBezTo>
                      <a:pt x="866" y="716"/>
                      <a:pt x="972" y="708"/>
                      <a:pt x="1008" y="715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 flipV="1">
                <a:off x="5410800" y="2337840"/>
                <a:ext cx="1392120" cy="880920"/>
              </a:xfrm>
              <a:custGeom>
                <a:avLst/>
                <a:gdLst/>
                <a:ahLst/>
                <a:rect l="l" t="t" r="r" b="b"/>
                <a:pathLst>
                  <a:path w="1008" h="716">
                    <a:moveTo>
                      <a:pt x="0" y="0"/>
                    </a:moveTo>
                    <a:cubicBezTo>
                      <a:pt x="59" y="21"/>
                      <a:pt x="259" y="43"/>
                      <a:pt x="353" y="125"/>
                    </a:cubicBezTo>
                    <a:cubicBezTo>
                      <a:pt x="447" y="207"/>
                      <a:pt x="489" y="400"/>
                      <a:pt x="562" y="492"/>
                    </a:cubicBezTo>
                    <a:cubicBezTo>
                      <a:pt x="635" y="584"/>
                      <a:pt x="718" y="642"/>
                      <a:pt x="792" y="679"/>
                    </a:cubicBezTo>
                    <a:cubicBezTo>
                      <a:pt x="866" y="716"/>
                      <a:pt x="972" y="708"/>
                      <a:pt x="1008" y="715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820680" y="4697280"/>
              <a:ext cx="159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411520" y="2155680"/>
              <a:ext cx="0" cy="260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1520" y="4697280"/>
              <a:ext cx="159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019400" y="2155680"/>
              <a:ext cx="0" cy="2541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803640" y="2155680"/>
              <a:ext cx="0" cy="2541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79040" y="3692520"/>
              <a:ext cx="26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79040" y="4146480"/>
              <a:ext cx="26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16640" y="349416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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33920" y="3932280"/>
              <a:ext cx="3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39840" y="4375080"/>
              <a:ext cx="99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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97320" y="452772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entury Schoolbook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93280" y="1951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entury Schoolbook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35480" y="4586400"/>
              <a:ext cx="33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-1440" y="5380200"/>
            <a:ext cx="10383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a very simplified tight-binding mode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idth of the band is proportional to the interactions with nearest neighb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440" y="6599160"/>
            <a:ext cx="103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interaction is small, the bands are very fl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580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ost important point: analyze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440" y="1341360"/>
            <a:ext cx="6856560" cy="4800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095960" y="5532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 2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95960" y="3990960"/>
            <a:ext cx="2362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 2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three ban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97760" y="2179800"/>
            <a:ext cx="3360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Fermi energy lies in a gap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ns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o. direct gap = 5.3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pt. Gap = 7.8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LDA band gap understim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00360" y="637056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ery small disperion of the O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and O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gO an ionic solid that crystallizes in the rocksal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4280" y="914400"/>
            <a:ext cx="87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the directory where the exercise of the bands of MgO is i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14880" y="3551400"/>
            <a:ext cx="33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cksalt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4280" y="1214280"/>
            <a:ext cx="41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pect the input file, MgO.f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22160" y="1623960"/>
            <a:ext cx="4059360" cy="56307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440160" y="2712960"/>
            <a:ext cx="6627600" cy="1067040"/>
            <a:chOff x="3440160" y="2712960"/>
            <a:chExt cx="6627600" cy="1067040"/>
          </a:xfrm>
        </p:grpSpPr>
        <p:sp>
          <p:nvSpPr>
            <p:cNvPr id="53" name=""/>
            <p:cNvSpPr/>
            <p:nvPr/>
          </p:nvSpPr>
          <p:spPr>
            <a:xfrm>
              <a:off x="5114880" y="2712960"/>
              <a:ext cx="4952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equilibrium lattice constant within LDA has been computed for you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440160" y="3017880"/>
              <a:ext cx="16747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440160" y="4160880"/>
            <a:ext cx="3200400" cy="398880"/>
            <a:chOff x="3440160" y="4160880"/>
            <a:chExt cx="3200400" cy="398880"/>
          </a:xfrm>
        </p:grpSpPr>
        <p:sp>
          <p:nvSpPr>
            <p:cNvPr id="56" name=""/>
            <p:cNvSpPr/>
            <p:nvPr/>
          </p:nvSpPr>
          <p:spPr>
            <a:xfrm flipH="1">
              <a:off x="3440160" y="4389480"/>
              <a:ext cx="16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114880" y="4160880"/>
              <a:ext cx="152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CC latt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440160" y="5456160"/>
            <a:ext cx="5029200" cy="398880"/>
            <a:chOff x="3440160" y="5456160"/>
            <a:chExt cx="5029200" cy="398880"/>
          </a:xfrm>
        </p:grpSpPr>
        <p:sp>
          <p:nvSpPr>
            <p:cNvPr id="59" name=""/>
            <p:cNvSpPr/>
            <p:nvPr/>
          </p:nvSpPr>
          <p:spPr>
            <a:xfrm flipH="1">
              <a:off x="3440160" y="5651640"/>
              <a:ext cx="16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14880" y="5456160"/>
              <a:ext cx="335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+ a basis of two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440160" y="6370560"/>
            <a:ext cx="6629400" cy="703800"/>
            <a:chOff x="3440160" y="6370560"/>
            <a:chExt cx="6629400" cy="703800"/>
          </a:xfrm>
        </p:grpSpPr>
        <p:sp>
          <p:nvSpPr>
            <p:cNvPr id="62" name=""/>
            <p:cNvSpPr/>
            <p:nvPr/>
          </p:nvSpPr>
          <p:spPr>
            <a:xfrm>
              <a:off x="5114880" y="6370560"/>
              <a:ext cx="495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ampling in k in the first Brillouin zone to achieve self-consisten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440160" y="6751800"/>
              <a:ext cx="16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116680" y="1494000"/>
            <a:ext cx="526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More information at the Siesta web pag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icmab.es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siesta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and follow the link Documentations,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1038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SCF has been achieved, we compute the bands along the high symmetry points in the First-Brillouin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62480" y="3359160"/>
            <a:ext cx="5923080" cy="190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390920" y="225576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w variables to plot the b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14280" y="2289240"/>
            <a:ext cx="3765600" cy="4049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3840" y="118908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st-Brillouin zone of a FCC , with the high symmetry 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14280" y="1112760"/>
            <a:ext cx="97552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at you have all the requir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 pseudopotential file (.vps or .psf) for every atomic specie included in the input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For Mg and O within LDA, you can download it from the Siesta web p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4280" y="2712960"/>
            <a:ext cx="8764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 the cod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esta &lt; MgO.fdf &gt; MgO.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4280" y="3962520"/>
            <a:ext cx="804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it for a few seconds… and then you should have an output, and a file called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gO.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1038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SCF has been achieved, we compute the bands along the high symmetry points in the First-Brillouin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4770360"/>
            <a:ext cx="10306080" cy="2490480"/>
            <a:chOff x="0" y="4770360"/>
            <a:chExt cx="10306080" cy="249048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5380200"/>
              <a:ext cx="6353280" cy="11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86480" y="488484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nergy of the Fermi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2144880" y="5151600"/>
              <a:ext cx="4341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86480" y="5761080"/>
              <a:ext cx="381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nimum and maximum eigenval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745080" y="591336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86480" y="6170760"/>
              <a:ext cx="3819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umber of orbitals in the unit cell, number of different spin polarization, and number of k-points in the walk through the 1B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363840" y="6065640"/>
              <a:ext cx="312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680160"/>
              <a:ext cx="625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ordinate of the k-point in the path, and eigenvalues (in eV). There are as many eigenvalues as orbitals in the unit cel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86480" y="5222880"/>
              <a:ext cx="3819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nimum and maximum length of the path in k-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3743280" y="5532480"/>
              <a:ext cx="2743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4280" y="4770360"/>
              <a:ext cx="633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f you inspect this file, you will find something lik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1112760"/>
            <a:ext cx="10145520" cy="62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plot the band structure, there is a Utility in the directory Util, called gnubands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use 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p ~/siesta/Util/gnubands.f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&lt;your_fortran_compiler&gt; -o gnubands.x gnubands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nubands.x &lt; MgO.bands &gt; MgO.bands.gnuplot.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name of this file is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nu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lot “MgO.bands.gnuplot.dat” using 1:2 with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t xrange [0:3.34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3.34 is the position of the last k-point in the path in k-sp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t yrange [-30.0:25.0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this is large enough to include all the valence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1038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SCF has been achieved, we compute the bands along the high symmetry points in the First-Brillouin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5383080" y="2141280"/>
            <a:ext cx="75960" cy="2895480"/>
          </a:xfrm>
          <a:custGeom>
            <a:avLst/>
            <a:gdLst>
              <a:gd name="textAreaLeft" fmla="*/ 0 w 75960"/>
              <a:gd name="textAreaRight" fmla="*/ 27360 w 7596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1038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SCF has been achieved, we compute the bands along the high symmetry points in the First-Brillouin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40" y="1341360"/>
            <a:ext cx="6856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440" y="1341360"/>
            <a:ext cx="6856560" cy="4800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97760" y="2179800"/>
            <a:ext cx="3360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Fermi energy lies in a gap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ns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o. direct gap = 5.3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pt. Gap = 7.8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LDA band gap understim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580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ost important point: analyze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81560" y="2027160"/>
            <a:ext cx="22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Mg: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2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2p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3s</a:t>
            </a:r>
            <a:r>
              <a:rPr b="1" lang="en-US" sz="16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1976400"/>
            <a:ext cx="5362560" cy="2905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640560" y="2589120"/>
            <a:ext cx="25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g loses two electr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at are gained by 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81560" y="3475080"/>
            <a:ext cx="22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O: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s</a:t>
            </a:r>
            <a:r>
              <a:rPr b="1" lang="en-US" sz="16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2p</a:t>
            </a:r>
            <a:r>
              <a:rPr b="1" lang="en-US" sz="16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315280" y="1981080"/>
            <a:ext cx="1486080" cy="1846800"/>
            <a:chOff x="8315280" y="1981080"/>
            <a:chExt cx="1486080" cy="1846800"/>
          </a:xfrm>
        </p:grpSpPr>
        <p:grpSp>
          <p:nvGrpSpPr>
            <p:cNvPr id="99" name=""/>
            <p:cNvGrpSpPr/>
            <p:nvPr/>
          </p:nvGrpSpPr>
          <p:grpSpPr>
            <a:xfrm>
              <a:off x="8317080" y="1981080"/>
              <a:ext cx="1484280" cy="398880"/>
              <a:chOff x="8317080" y="1981080"/>
              <a:chExt cx="1484280" cy="398880"/>
            </a:xfrm>
          </p:grpSpPr>
          <p:sp>
            <p:nvSpPr>
              <p:cNvPr id="100" name=""/>
              <p:cNvSpPr/>
              <p:nvPr/>
            </p:nvSpPr>
            <p:spPr>
              <a:xfrm>
                <a:off x="9115560" y="201132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Mg</a:t>
                </a:r>
                <a:r>
                  <a:rPr b="1" lang="en-US" sz="1600" spc="-1" strike="noStrike" baseline="30000">
                    <a:solidFill>
                      <a:srgbClr val="ffff00"/>
                    </a:solidFill>
                    <a:latin typeface="Arial"/>
                  </a:rPr>
                  <a:t>2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317080" y="198108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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8315280" y="3429000"/>
              <a:ext cx="1486080" cy="398880"/>
              <a:chOff x="8315280" y="3429000"/>
              <a:chExt cx="1486080" cy="398880"/>
            </a:xfrm>
          </p:grpSpPr>
          <p:sp>
            <p:nvSpPr>
              <p:cNvPr id="103" name=""/>
              <p:cNvSpPr/>
              <p:nvPr/>
            </p:nvSpPr>
            <p:spPr>
              <a:xfrm>
                <a:off x="9115560" y="347508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O</a:t>
                </a:r>
                <a:r>
                  <a:rPr b="1" lang="en-US" sz="1600" spc="-1" strike="noStrike" baseline="30000">
                    <a:solidFill>
                      <a:srgbClr val="ffff00"/>
                    </a:solidFill>
                    <a:latin typeface="Arial"/>
                  </a:rPr>
                  <a:t>2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15280" y="3429000"/>
                <a:ext cx="76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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581040" y="5456160"/>
            <a:ext cx="92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would expect O (on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and and thre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ands) bands completely full and Mg bands completely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580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ost important point: analyze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580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ost important point: analyze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440" y="1341360"/>
            <a:ext cx="6856560" cy="4800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095960" y="5532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 2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95960" y="3990960"/>
            <a:ext cx="2362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 2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three ban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97760" y="2179800"/>
            <a:ext cx="3360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Fermi energy lies in a gap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ns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o. direct gap = 5.3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pt. Gap = 7.8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LDA band gap understim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21:57:52Z</dcterms:created>
  <dc:creator>Javier</dc:creator>
  <dc:description/>
  <dc:language>en-US</dc:language>
  <cp:lastModifiedBy>Javier</cp:lastModifiedBy>
  <dcterms:modified xsi:type="dcterms:W3CDTF">2009-05-15T16:55:00Z</dcterms:modified>
  <cp:revision>574</cp:revision>
  <dc:subject/>
  <dc:title>Difficulty: how to deal accurately with both the core and valence electrons</dc:title>
</cp:coreProperties>
</file>